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DB9-CB3F-4F29-88C2-9B80FB44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96-9BD2-4B95-AFFE-64F855E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F3D4A-62AF-4BBF-B582-637332D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E2BE1-6567-418B-AA1F-38D87F4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4F0A7-CAF2-47CC-AA64-5ED0C2ED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AD9A-89C8-4B7D-A95B-CF2E8A0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D9F9-15A3-4E56-A419-E7851E4F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A3DE-1A3D-48E1-88B2-FDC3DF6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186AC-93FF-4CC0-ADBE-09842936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E7026-F03E-4FB3-9948-00301176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4DC3-CA98-48B9-949A-0EEDBFD4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BF764-A539-4212-AD11-60FF5CE5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F26-1ADF-4399-8D76-4DA67B8A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D91E4-182C-4DDB-96B2-390C008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85AE-CD2A-480C-A737-77F02863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7843D-726F-4D56-9E26-89817F20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B058A-DD5C-4394-9E93-F3A27C9E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96EEE-4601-4686-810F-F4E16173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803AB-7412-4A21-B496-DF49B15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9D5B6-BBF9-4E8A-BAA2-415A1D0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EA34F-879D-433F-8DE0-3C90833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320E-5DE8-43ED-812C-AD587DD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65842-610C-42DD-91C6-C3B0AAFE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BD2-9052-4773-967B-5AC63C0D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89305-4A9C-440A-8E5C-973FD094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857F6-BC52-4D6E-BD4E-138FC43E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66920-A5F9-4525-9A13-4F1F1DD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DBC7B-0EBF-4EBA-87FB-380A8125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1636-4662-47D7-95C4-3B8CA27D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0986-5804-4DE8-A400-D285BC3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056E9-FF5F-4035-9265-C4F254E9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0BCDC-AC95-4712-8C52-AE6504C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38DBB-A95A-4297-B03A-788023C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8D196-A941-4DA7-A9C7-D533D60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769-55A5-423F-B796-3F1FAF5E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61CC4-CCD1-4FD0-B711-3153D5F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D3CA6-5FCA-4451-8E40-2487AF7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703D6-1FE0-4771-8ED3-B4C62A9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8FE89-D4FE-47A1-91BB-5EF41A44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6CFB3-D3A5-4ECC-A7DC-67474F6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ED12D-63A9-40CD-8331-4556123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B66F-0C86-42D0-8E5F-D875AB75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13907-2BEC-496B-B310-87B2F9E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EDAC-F333-4983-8785-48FD9F0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CB020-A72F-481E-B811-24DBA03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C3F-79F5-4231-8F33-E1EE4E1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D6CA9-DF8A-49F7-B395-A73A75D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41A34-EB1F-446B-B28D-5C6A5D4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F6489-962B-4B46-883B-0556E421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C0392-2894-46B1-A539-45138872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33498-6EED-49CB-9668-05DADA35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9B577-8F96-42CE-B9B7-6E92703A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40E44-8D35-400D-9CB7-8587EBA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81361-7780-4591-B189-9E5BC1E6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F7BF6-D68A-43C6-908B-EF03C6B3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7FD79-14BC-4A2C-9625-C3ADB3C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02D9-3E14-4A7D-9648-7BB7454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8C972-5758-4285-90AE-55189B1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6AED5-05B2-4BF2-9421-57BEAEF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17F2F-EB79-4406-981A-46D314F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170CC-625C-463D-8049-0A4DE46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75C14-7003-4C3A-8663-69086BA2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675BF-DA21-4E8F-A19E-94FDD8D0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1BAA5-9AC3-450B-998A-F0CD0EAF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2C5BA-91D7-4B04-AF83-CC976925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08170-147F-4526-9164-8E0B317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EAFE4-A779-4A75-AF47-1A989CB2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AA1A-2846-431B-ADE2-68616E9C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547D0-35E7-4F96-8FC3-38FE6B3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B1FAB-D1BE-47C7-B8E5-112AF59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DB692-F658-47F7-94DB-1B501973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FECB8-F466-4AD5-B81C-5BD7CBD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7A7BC-0DF1-4CB9-8C4B-4F32451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F8A68-6BBB-41F3-A35B-65560F3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AD807-41B9-44CD-9A50-A066F95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B3747-F8F9-47A4-B098-E6C73B07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DC027-8D9D-424E-9457-8BE0BFC8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ADD62-A6E9-4A2C-851B-56C0F4B1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6E6-EEF6-4599-B2CF-B2B75F4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D5C08-4F90-4167-96EB-D4865C7A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0D3E6-AAAD-4591-9AD0-A079AF8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B4771-6772-47D4-95C0-41FA724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AC7E0-61D3-4360-9778-AD983EE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20F32-F36F-475C-B8CD-069C836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B8E51-D4EF-4F71-8470-6777034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B8F56-0BC5-4141-8FE7-D393D034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5E439-8C85-4BF4-8F91-52A6822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7D55C-6709-43AB-BD8A-EAB0E2E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352FB-1A8E-44BE-80D2-7DFFD722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4926-68B9-477D-B30C-604E297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8A7C2-7629-40DF-B057-AD04366A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D8666-2225-4362-BBCC-B327E5E8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44CD4-ECE3-46A8-A9E9-C620692A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B490F-DC18-4CF8-BD76-1B412171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E9B61-4BC0-4701-A50D-7FAE9A7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074CD-A12A-47C4-B942-65AE6F2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884DD-8774-43E3-BEF5-D8075FDC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9A845-CEDE-4F75-A4BA-3480BA5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CB4A4-7C0D-4458-AB08-3FA7BE69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375E5-CF6C-425D-9A93-DB5CFB4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9C1B-A0B7-4FE3-81DD-33598CF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A4A27-7697-42BB-848C-54D4CC4A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19D84-A3C8-4E7F-9368-FC733981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DD15B-C9DD-4852-97A1-9F92347E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941F7-6FA4-45C8-BBFF-EB59EE28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DB8FD2-65F4-4A6D-8FA6-AB6A9410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E1DA5-13E5-48D2-A3E4-ED7717C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1C31B-B812-4952-B4FC-6C5AEEB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ABB00-F070-493A-BE15-09F996A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834B9-51EC-4ECB-BAAB-E7D21AF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EF3CB-C9B3-4965-AF3E-E2749BB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E6B-E3E3-444F-A6FF-3628158A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2384-C0C1-462F-9E2F-F8631C0F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17636-A43E-4A6C-A08E-B55F87E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D9F73-59B5-4422-8C9D-5475948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27EEF-70BB-4A3D-9FF3-2CC55F60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F2FFE-B17D-49E6-B4B1-25AB54A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753C0-E5F6-4B79-A657-024CA4B9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8180F-FEF2-4E68-BE81-A651E574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0B3FA-80A7-4567-8437-678B825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0296F-42C7-4E0A-B58D-355EC02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E630E-3202-49CA-B560-BA9686CB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14CA0-A2FF-452F-B638-3BA91CFF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B02-2BC6-484C-9E95-3DAEA667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BF701-9738-45FC-A39F-E8E82AC4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A3785-D066-4115-A239-596F5E5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02F90-EE8D-4093-B5AD-AF083A5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59F38-AAA9-4D8A-9FEB-F9165BF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EE7FD-6DA1-4910-A630-2752E2E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03FBE-18D3-4DCD-A167-20707238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83875-E406-464D-A86E-2855347D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7DC02-FBD0-4712-BD08-9E87222F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0457B-12FC-4AB4-90E4-D0A0988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0B5F3-2297-4A36-8917-CEF3E59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27A0-C616-4B10-B12E-5900E45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FF79B-20AE-4656-B3ED-CFE1B69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5BFE0-945A-4F0E-BF16-B27D44A8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F36FE-8719-46A1-9C47-32F8AC8B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ED168-D680-4F9E-ACEE-9C792DA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09E14-F457-421E-8C63-C5EA6A8F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4205B-C620-43D3-9260-4E5E1DA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FB420-7DE9-4CBB-91A3-B711E04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D25EA-3903-4955-9D98-72494FCA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A922D-B8D9-4441-B024-164C6BAC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C795F-7DE9-41F6-9427-579FF201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11A-DD88-4D8F-BE8A-EB9BE22E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81278-4A4C-42AA-9465-A1D592A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C2AF7-D177-4596-9D20-47DB15F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26D03-2C3D-4FF3-9AB8-A584B7C6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DEBC7-CDA2-4D13-A167-909D5ED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E9261-6EAE-4888-8BD2-7C9DD27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6C483-47A8-414A-9522-B4706A7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F2537-BE51-4B26-8DA0-251B2B5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4AC4D-0EB7-4FEC-898B-285F8F0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BBDFF-88B4-4242-AE4C-6A22AFC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F5075-5DF2-44DE-B4F5-35772405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7AE6-25A8-4E34-B332-C1D60D75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7CC45-7790-451C-8204-72FC697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5A9CA-28BD-46BE-8854-CBEF2CB6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5755C-6CA0-4B22-BDEF-9CFC1DC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60BB3-44A3-4436-90C8-D98ECE29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A6CC4-D9D8-40B0-8478-65A83660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837AA-9076-42EC-9988-031F395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45539-EEFB-4443-A355-8869127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AD399-E541-4BE1-969F-A41FB68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0F6B7-13DF-44F9-8D8D-48AC775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ECD4D-DA5A-44D3-81CC-5BD9FAC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4630-B21A-4840-970F-DF0E1379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8644F-C82B-4A32-B404-73D7B5CB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5B467-93BE-4F9F-9244-26865E91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F17F3-8E33-48C4-BD6C-CED18727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9E0E-B983-4A4F-8A71-9C608C6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A27E-D4FD-4F1B-8DA7-70DC93CD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541D-7938-449E-AD7E-DA74072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AEFF-C1CF-4F7D-9AE3-B0128ED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B5E-38C7-4736-8540-3F8C4E2C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178D-AF37-40C4-A35F-63B889D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457D-854E-4290-8F40-CC8B841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BDC1-1FBB-4879-9C69-33CF432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C0AA-7337-461C-81A6-35C3EA9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3B8A-139F-4F92-84E3-3F0F6B4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583D-409B-4964-A83B-CA9A7015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754E-A971-497D-83DA-6D2E03C6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7A30-48B5-48A2-B6BD-742EEA0E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31D2-50A3-4327-8312-E9A5801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23EE-7786-46C6-8ABD-EE83DE84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98D-A13E-49A4-BAAB-777E0B8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257B-E25C-4CA6-9FBB-6778C54E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4E39-50FD-40F3-8C0B-31AE79E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D571-FE89-43DC-80C3-1D5807C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1E6A-FE29-40FF-870E-21E8410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9569-84AF-433F-9424-7FF277C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4ED7-0046-4170-82B3-B142E57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F53B5-FD0E-477D-BFFF-8567792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F2A1-6FB4-4ADB-817C-9207AFBF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F440-9EB5-48DD-87C9-143D8F82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3423-6F6C-4EBE-9368-081A36F1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294-F059-456B-99EA-9DB5178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0960-CA20-4B9D-B2BB-3ACAC0B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6298-66C7-4F71-A796-48A6E58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CCC2-631E-4603-AD53-8CC40351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1C24-3A61-4DD9-9082-5E588AFD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0F9D6-3D41-4CD0-BF97-2EAF481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9D7A-09A8-4F91-8E00-D5F66E3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18D4-ECE6-460A-84BB-AA09AD7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82DE-4BF8-4E4C-9027-0676B89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1DB0-A1EA-4909-9EE3-4A32491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699E-FC75-4A77-917B-351BB0A0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B70-A352-4458-96E5-1DC60DFD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D675D-02D4-4C92-AF12-3730A3F4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2643-6373-4A9F-8248-21A5A80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850D-D227-496F-9804-8645A315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4E39C-A986-4F49-A51C-8D19442D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A273-E668-4C79-B00F-EA23F52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4DAE-B672-4673-97FA-A703F58C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4729-199F-4602-B2F2-B4DCBD0B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F659-E799-4A3D-A97B-C15E437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9099-92B1-4299-A8C9-3E41F73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1C65-F548-4CC6-AC47-08EA67E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74E-911B-473F-B4C1-08817A7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C950-3EEA-4DCD-A7FC-F6FE587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6E664-4A3A-4DB3-B89D-E9EFA582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A8F7-93D0-472C-AA3C-341D48B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AB9D-6F3A-4897-A7E7-11B649B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10FA-D697-45A6-9531-ACF4D441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584F-B321-4D4A-888C-C0C31263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156C-6951-4020-800B-E4F133D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89F2-C90B-4B57-BE98-688C766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610C1-6470-4F9B-B55A-97E787C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F380-3B20-4CC8-B1AB-B038AD6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6C6-3339-4EEE-9907-9AC01DB3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5F92-08B9-492A-A4B4-94133DC1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3E268-3D34-4BE2-83C3-2A8D3A3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B3435-67BB-481C-9EA8-CFCA1A0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71E81-B33B-4AA9-8897-D6439901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A9A5-203C-4318-96A8-40A67A9D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2CFD-54CF-4118-8F94-8FED0B48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8124-8712-4CB6-8685-2CD0553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6DBC-1656-421A-884A-C42C8F2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20AA-8559-4641-A771-FB2BE64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E9C68-5321-4507-8D7C-FBCE710E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306-7547-4F0B-B1B8-9A65192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C971-BA97-4AE9-B36E-6BEFD6F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5556-FB27-4E6D-8BB8-850DEDD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E452-A581-4667-88E7-AA5FD09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D460-8AA2-4DC5-B400-6A33B41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9640-66CA-4BD2-961B-4AC0A025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320E-41FB-4099-94CE-19566689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08092-5E7A-4956-AA6A-5C697C61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72979-9F98-47CC-AA49-96306563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D4A19-C202-40EC-A2FE-E129C33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1AEE-F635-4FF0-838D-66CCBFB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45F4-6A39-49AE-BC29-966A9C3CF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0C3-15BD-400B-A9F0-9134BC01D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E1DF-8139-4F8B-89A5-576DC4F9D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EC8-24A2-4372-9B7C-66A0EDA8C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F29-56E7-46C3-A32A-EDFEBAC47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597C-4763-493B-942B-B82BD1CBB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500-D487-4A0A-9748-EE90A9F86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C889-C981-4BB1-A4BF-F2090A569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7F0-1F75-47E8-AB12-7932D3D24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402-8E8E-46B8-B918-CCB39BBD1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EE51-73E2-4C8F-BF75-E4C90E272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B63-CE4B-4BE6-B9C5-A3BD8F86B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D155-BBCC-499E-A098-F319681FD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351-528D-4EE6-9A12-B12452CF0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B1C-5069-4202-A16F-FCE934A6E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506B-20D9-45E3-82A9-18BEB3896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EBA-999D-4FC0-9855-7F9DF162B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1591-B184-49B0-B63C-B1083F4E9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62E2-3B9F-4180-ACAC-FDF2941DD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9B29-F9BC-4B44-B6C9-1E75D3CDA7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CCB-6770-4FBA-8D0E-858E09B97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AE3-7162-4B73-A1D1-C185D5F64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C5E8-397C-40EA-ACAF-B8CC45C24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D26-5F22-45D3-8DF3-851113F7A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48A-886B-4436-A191-37EA8BABD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A20-07F2-46AB-AA10-BA2008B3A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F926-2C5E-4971-8E75-9231D176F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AB1-6DD4-4F9B-B992-D80AEC329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052-9C72-4741-BFF4-B2AB6E9F8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843-08AB-48EE-A2C5-5B0802A33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07A-E05F-4F36-8F9C-4572BB403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7587-F02C-48BF-9A0E-E651CB7EC8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89E-7F70-400D-B2B7-3E9451A60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BD44-F83C-488B-AE08-9030A8A74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C3E-5F7F-44CB-BF9C-0C91A6F66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B9DB-A042-4B14-9E89-B82CC1059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BE82-A2B4-4F94-A8DC-FF249F411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06A-8370-4185-BA08-163EC3819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3C7-2F62-428C-8AB0-0CFC49061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0260-1CC7-4A63-9391-993F9123D1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52560" y="2986200"/>
            <a:ext cx="36388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414360" y="1224000"/>
            <a:ext cx="8313840" cy="4410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719280" cy="277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443640" y="2492280"/>
            <a:ext cx="1008000" cy="277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556000" y="2800440"/>
            <a:ext cx="1008000" cy="277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516720" y="2800440"/>
            <a:ext cx="1008000" cy="277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771640" y="3112920"/>
            <a:ext cx="1008360" cy="27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526080" y="3116160"/>
            <a:ext cx="1008360" cy="2779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268360" y="3716280"/>
            <a:ext cx="1008360" cy="277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4932360" y="3716280"/>
            <a:ext cx="1008000" cy="2779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7667640" y="3716280"/>
            <a:ext cx="1008000" cy="277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1096920" y="5348160"/>
            <a:ext cx="432000" cy="277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3059280" y="535464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5508720" y="5364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7524720" y="5354640"/>
            <a:ext cx="43200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3760" y="1871640"/>
            <a:ext cx="9094680" cy="3114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28144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826920" y="37544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76200" y="1995480"/>
            <a:ext cx="8389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2" descr=""/>
          <p:cNvPicPr/>
          <p:nvPr/>
        </p:nvPicPr>
        <p:blipFill>
          <a:blip r:embed="rId1"/>
          <a:stretch/>
        </p:blipFill>
        <p:spPr>
          <a:xfrm>
            <a:off x="38160" y="2496960"/>
            <a:ext cx="9067680" cy="18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4:5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